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5B5-8224-4987-AE8D-765E3F1A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AED-D7F8-4579-B995-4FB9B2DE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CB40-D094-4BCE-976D-C88670EC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E74-47B1-442D-93FB-8731A042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08E-F272-4C5B-8AD0-E34227FD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75A-59EC-475C-B938-57822F50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E77D-5CEC-46F9-9FDC-52DF606F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46B-BECB-4119-BFBF-B839F760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14A-1A9E-414A-B409-7161F6B2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153-45C7-4E00-9F80-2E49BFFA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DB0-76E7-4B9B-90BF-3533DCB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EF6-7694-42AD-B3F3-1B3F69E5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D592-6B76-4B57-B4B1-52D63DBF8A15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001E-27AA-4174-8BF2-D4FC3EA1AC8D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hk/imgres?imgurl=http://propagandaprofessordotnet2.files.wordpress.com/2010/11/telephone.gif&amp;imgrefurl=http://propagandaprofessor.net/tag/game-of-telephone/&amp;usg=__sM7V0HQqVtzu0TU2-qE4t23_xsM=&amp;h=797&amp;w=800&amp;sz=12&amp;hl=zh-CN&amp;start=19&amp;zoom=1&amp;tbnid=BJybINvNTOwJnM:&amp;tbnh=142&amp;tbnw=143&amp;ei=WV8EUvq6MsmKiQe9zYCABQ&amp;prev=/search%3Fq%3Dtelephone%26newwindow%3D1%26safe%3Dstrict%26hl%3Dzh-CN%26gbv%3D2%26tbm%3Disch&amp;itbs=1&amp;sa=X&amp;ved=0CE8QrQMwE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2057400" y="1828800"/>
            <a:ext cx="59436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23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Weekend with Grandma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图片 5132" descr="ANd9GcTO_YFhZavA2W03Z7AsIb8IoO0qYGYOH_sP973qUC8IvvsnM_uxnr2dFo7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3809880"/>
            <a:ext cx="236232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7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79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77" name="文本框 33897"/>
          <p:cNvSpPr/>
          <p:nvPr/>
        </p:nvSpPr>
        <p:spPr>
          <a:xfrm>
            <a:off x="990720" y="2622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个周末你打算做点什么事呢，请你给自己列一个清单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56327"/>
          <p:cNvSpPr/>
          <p:nvPr/>
        </p:nvSpPr>
        <p:spPr>
          <a:xfrm>
            <a:off x="755640" y="2362320"/>
            <a:ext cx="7778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Confidence in yourself is the first step on the road to success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自信是走向成功的第一步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79" name="图片 56329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5633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762120" y="2819520"/>
            <a:ext cx="754380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spend a weekend with your grandfather or grandmother? What do you do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6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150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矩形 6160"/>
          <p:cNvSpPr/>
          <p:nvPr/>
        </p:nvSpPr>
        <p:spPr>
          <a:xfrm>
            <a:off x="3745440" y="54100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hon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图片 6164" descr="u=2128546798,329836346&amp;fm=52&amp;gp=0"/>
          <p:cNvPicPr/>
          <p:nvPr/>
        </p:nvPicPr>
        <p:blipFill>
          <a:blip r:embed="rId1"/>
          <a:stretch/>
        </p:blipFill>
        <p:spPr>
          <a:xfrm>
            <a:off x="2895480" y="1981080"/>
            <a:ext cx="2890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4035"/>
          <p:cNvSpPr/>
          <p:nvPr/>
        </p:nvSpPr>
        <p:spPr>
          <a:xfrm>
            <a:off x="3809880" y="5380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rocer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图片 44038" descr="u=1626757913,1208729543&amp;fm=23&amp;gp=0"/>
          <p:cNvPicPr/>
          <p:nvPr/>
        </p:nvPicPr>
        <p:blipFill>
          <a:blip r:embed="rId1"/>
          <a:stretch/>
        </p:blipFill>
        <p:spPr>
          <a:xfrm>
            <a:off x="2209680" y="106668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8131" descr="200805160204382813"/>
          <p:cNvPicPr/>
          <p:nvPr/>
        </p:nvPicPr>
        <p:blipFill>
          <a:blip r:embed="rId1"/>
          <a:stretch/>
        </p:blipFill>
        <p:spPr>
          <a:xfrm>
            <a:off x="2209680" y="1066680"/>
            <a:ext cx="4953240" cy="375948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48132"/>
          <p:cNvSpPr/>
          <p:nvPr/>
        </p:nvSpPr>
        <p:spPr>
          <a:xfrm>
            <a:off x="3581280" y="502920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ooksto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4346"/>
          <p:cNvSpPr/>
          <p:nvPr/>
        </p:nvSpPr>
        <p:spPr>
          <a:xfrm>
            <a:off x="1066680" y="1600200"/>
            <a:ext cx="739152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far is the bookstore from Hanyu’s grandma’s house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ere does Hanyu’s grandma buy her groceries? Wh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What are Hanyu and her grandparents going to have for dinner tomorrow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矩形 14340"/>
          <p:cNvSpPr/>
          <p:nvPr/>
        </p:nvSpPr>
        <p:spPr>
          <a:xfrm>
            <a:off x="1447920" y="3457440"/>
            <a:ext cx="7010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e buys them at the morning market. Because the vegetables are fresh and not too expensiv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矩形 14341"/>
          <p:cNvSpPr/>
          <p:nvPr/>
        </p:nvSpPr>
        <p:spPr>
          <a:xfrm>
            <a:off x="1447920" y="22096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’s just two bus stops aw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矩形 14347"/>
          <p:cNvSpPr/>
          <p:nvPr/>
        </p:nvSpPr>
        <p:spPr>
          <a:xfrm>
            <a:off x="1447920" y="5181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are going to have dumpling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15361"/>
          <p:cNvSpPr/>
          <p:nvPr/>
        </p:nvSpPr>
        <p:spPr>
          <a:xfrm>
            <a:off x="838080" y="16002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e is talking to her grandma on the phon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她正和奶奶在电话上交谈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文本框 15362"/>
          <p:cNvSpPr/>
          <p:nvPr/>
        </p:nvSpPr>
        <p:spPr>
          <a:xfrm>
            <a:off x="1143000" y="259092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lk to/with sb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 和某人交谈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n the phon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电话上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hon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前介词要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n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类似的还有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sten to music on the radio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收音机上听音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rite on the paper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在纸上写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2" name="图片 15370" descr="3"/>
          <p:cNvPicPr/>
          <p:nvPr/>
        </p:nvPicPr>
        <p:blipFill>
          <a:blip r:embed="rId1"/>
          <a:stretch/>
        </p:blipFill>
        <p:spPr>
          <a:xfrm>
            <a:off x="7391520" y="762120"/>
            <a:ext cx="1523880" cy="144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6385"/>
          <p:cNvSpPr/>
          <p:nvPr/>
        </p:nvSpPr>
        <p:spPr>
          <a:xfrm>
            <a:off x="914400" y="720720"/>
            <a:ext cx="777240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I can read you one this weeken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本周末我可以给你读一个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文本框 16386"/>
          <p:cNvSpPr/>
          <p:nvPr/>
        </p:nvSpPr>
        <p:spPr>
          <a:xfrm>
            <a:off x="1219320" y="1905120"/>
            <a:ext cx="7467480" cy="3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 sb. sth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给某人读某物，相当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ad sth. to sb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类似用法的词还有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rite sb. sth.=write sth. to sb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给某人写东西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ive sb. sth.=give sth. to sb.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给某人某物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 often write my father letter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常给爸爸写信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8"/>
          <p:cNvSpPr/>
          <p:nvPr/>
        </p:nvSpPr>
        <p:spPr>
          <a:xfrm>
            <a:off x="3581280" y="762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6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37893"/>
          <p:cNvSpPr/>
          <p:nvPr/>
        </p:nvSpPr>
        <p:spPr>
          <a:xfrm>
            <a:off x="609480" y="144792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今年你过得好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e you ________ _____ this year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我需要从超市买东西吗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I need ____ ______ ________ from the supermarket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晚饭我们打算吃饺子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’re _____ ______ have dumplings _____ dinner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文本框 37894"/>
          <p:cNvSpPr/>
          <p:nvPr/>
        </p:nvSpPr>
        <p:spPr>
          <a:xfrm>
            <a:off x="2133720" y="2666880"/>
            <a:ext cx="12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o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文本框 37899"/>
          <p:cNvSpPr/>
          <p:nvPr/>
        </p:nvSpPr>
        <p:spPr>
          <a:xfrm>
            <a:off x="2533680" y="373392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文本框 37900"/>
          <p:cNvSpPr/>
          <p:nvPr/>
        </p:nvSpPr>
        <p:spPr>
          <a:xfrm>
            <a:off x="1905120" y="4800600"/>
            <a:ext cx="12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文本框 37901"/>
          <p:cNvSpPr/>
          <p:nvPr/>
        </p:nvSpPr>
        <p:spPr>
          <a:xfrm>
            <a:off x="3124080" y="48006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矩形 37907"/>
          <p:cNvSpPr/>
          <p:nvPr/>
        </p:nvSpPr>
        <p:spPr>
          <a:xfrm>
            <a:off x="3276720" y="373392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y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矩形 37908"/>
          <p:cNvSpPr/>
          <p:nvPr/>
        </p:nvSpPr>
        <p:spPr>
          <a:xfrm>
            <a:off x="3505320" y="2666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l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矩形 37909"/>
          <p:cNvSpPr/>
          <p:nvPr/>
        </p:nvSpPr>
        <p:spPr>
          <a:xfrm>
            <a:off x="4038480" y="3733920"/>
            <a:ext cx="21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yth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文本框 37912"/>
          <p:cNvSpPr/>
          <p:nvPr/>
        </p:nvSpPr>
        <p:spPr>
          <a:xfrm>
            <a:off x="6005520" y="48769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0:43:52Z</dcterms:created>
  <dc:creator/>
  <dc:description/>
  <dc:language>en-US</dc:language>
  <cp:lastModifiedBy>Administrator</cp:lastModifiedBy>
  <dcterms:modified xsi:type="dcterms:W3CDTF">2019-01-02T00:45:58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